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9D76-9A95-44C7-9871-9034E73F31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ах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Михайлова С.А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C40D-3E93-4DCD-BA3F-16685422EEE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швейной маши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EBA7-7594-4192-A748-61B7825FAB8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брать волосы под косы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работой убрать с платформы машины посторонние предметы, закрепить иглу и лап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жде чем стачивать изделие, проверить, не осталась ли в нем булавка или игол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C18A-3A47-474B-BA3F-B938BA0CB00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ремя работы не наклоняться близко к движущемуся стержню иг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82EA-FE60-4C89-8058-CCB053886536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ить к ученицам, работающим на машинах, не отвлекать их от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ручной машине ручку махового колеса крутит только сам работа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B816-3703-4D6E-A47D-ABC71163FDBF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бинете трудов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ходить в кабинет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началом работы одеть спецодеж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6A7E-03F0-498B-9D42-0429BC8B8F2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ть работу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льзя отвлекать работающих однокласс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48D4-DCE5-40BA-9139-C81FE306C6F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олучении травмы учащийся должен немедленно обратиться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67CC-DD1C-4190-93A8-331438C235BC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работе с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82C3-8E81-4673-9889-E03BED0FDC6E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ейте только с наперст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кройки к ткани прикрепляйте острыми концами            булавок в направлении от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аклоняйтесь близко к движущимся частям швейной ма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C111-9842-4944-9A40-AFBC4AB0CFCD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ите пальцы рук около лапки швейной машины во избежание прокола их иг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ткусывайте нитки зубами, а отрезайте их ножни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C1AF-948F-461D-B0CE-B63EFF936BB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с электрическим утю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ставляйте включенный утюг в сеть без присмо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йте и выключайте утюг сухими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вьте утюг на термоизоляционную подста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31F5-AAD9-43F0-B304-59FF142A8D2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нормальной работой утюга, о всех неисправностях сообщайте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тем, чтобы подошва утюга не касалась шн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лючайте утюг только за ви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731B-96F5-4411-89AC-4389897F2302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528-51ED-4FE0-8113-C0D3AE36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C3E-D6F3-4F46-8FB9-54609AEE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B72-1BA0-4D66-8791-CBF3269C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E56-48A4-4262-BE78-B7E48B9B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0AD7-7992-4F7E-89D8-FE3B3BE6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5F31-3EFB-4DD9-856E-255185C2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8DCA-CA67-4875-801C-0D46E6CF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1509-F174-4EED-BABD-4AD732E6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48FE-E694-4043-BE93-76FB8532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6D25-7A61-4C18-9748-8995B580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5AE3-623B-4924-A2F4-CC31AAB8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DE9-E5F9-4D34-96AD-7F6C9852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3D8C-CA10-425C-99C0-3DB38014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F0B3-72FC-4A51-9C70-B0AFFE0E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A89D-488E-4312-A6E9-F01E0794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4A59-60F4-454E-B6B5-E82ABD7B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4411-1023-4D0A-9EC6-804DC218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E8B-BE19-4040-A691-58A26703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264-1817-470F-991F-3BDBE18C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29A-EB84-460D-827A-06480AAE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EDD-4069-4786-8331-BB0189BD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A39-AE74-4F88-8ACA-B0C17ED4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0F5-4DF4-4FF8-A86B-50A83231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06E-84E9-43EF-AB21-A2C51B03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B066-77AA-4344-91C4-3AF950A76F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548D-E3D8-47B9-9498-2E0AB878E4DC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23796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Техника безопасности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а уроках технолог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Автор: Михайлова С.А.,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2" name="Picture 21" descr="j0232859[1]"/>
          <p:cNvPicPr/>
          <p:nvPr/>
        </p:nvPicPr>
        <p:blipFill>
          <a:blip r:embed="rId1"/>
          <a:stretch/>
        </p:blipFill>
        <p:spPr>
          <a:xfrm rot="2652000">
            <a:off x="1042560" y="76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9" descr="j0250979[1]"/>
          <p:cNvPicPr/>
          <p:nvPr/>
        </p:nvPicPr>
        <p:blipFill>
          <a:blip r:embed="rId2"/>
          <a:stretch/>
        </p:blipFill>
        <p:spPr>
          <a:xfrm>
            <a:off x="2556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4211280" y="692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4" descr="j0283462[1]"/>
          <p:cNvPicPr/>
          <p:nvPr/>
        </p:nvPicPr>
        <p:blipFill>
          <a:blip r:embed="rId4"/>
          <a:stretch/>
        </p:blipFill>
        <p:spPr>
          <a:xfrm>
            <a:off x="766764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j0234096[1]"/>
          <p:cNvPicPr/>
          <p:nvPr/>
        </p:nvPicPr>
        <p:blipFill>
          <a:blip r:embed="rId5"/>
          <a:stretch/>
        </p:blipFill>
        <p:spPr>
          <a:xfrm>
            <a:off x="6084720" y="692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0920" y="330120"/>
            <a:ext cx="8342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и работе на швейной машине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6" name="Picture 4" descr="MCj04359910000[1]"/>
          <p:cNvPicPr/>
          <p:nvPr/>
        </p:nvPicPr>
        <p:blipFill>
          <a:blip r:embed="rId1"/>
          <a:stretch/>
        </p:blipFill>
        <p:spPr>
          <a:xfrm>
            <a:off x="2571840" y="2286000"/>
            <a:ext cx="4062240" cy="3495600"/>
          </a:xfrm>
          <a:prstGeom prst="rect">
            <a:avLst/>
          </a:prstGeom>
          <a:ln w="38160">
            <a:solidFill>
              <a:srgbClr val="8383a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Убрать волосы под косын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работой убрать с платформы машины посторонние предметы, закрепить иглу и лап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ежде чем стачивать изделие, проверить, не осталась ли в нем булавка или игол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о время работы не наклоняться близко к движущемуся стержню игл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4" descr="MCj02813010000[1]"/>
          <p:cNvPicPr/>
          <p:nvPr/>
        </p:nvPicPr>
        <p:blipFill>
          <a:blip r:embed="rId3"/>
          <a:stretch/>
        </p:blipFill>
        <p:spPr>
          <a:xfrm>
            <a:off x="6443640" y="4437000"/>
            <a:ext cx="2104920" cy="163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MCj02904170000[1]"/>
          <p:cNvPicPr/>
          <p:nvPr/>
        </p:nvPicPr>
        <p:blipFill>
          <a:blip r:embed="rId4"/>
          <a:stretch/>
        </p:blipFill>
        <p:spPr>
          <a:xfrm>
            <a:off x="1476360" y="4365720"/>
            <a:ext cx="1528920" cy="16351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подходить к ученицам, работающим на машинах, не отвлекать их от раб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работе на ручной машине ручку махового колеса крутит только сам работающ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Picture 4" descr="logotip"/>
          <p:cNvPicPr/>
          <p:nvPr/>
        </p:nvPicPr>
        <p:blipFill>
          <a:blip r:embed="rId3"/>
          <a:stretch/>
        </p:blipFill>
        <p:spPr>
          <a:xfrm>
            <a:off x="3857760" y="4071960"/>
            <a:ext cx="2384280" cy="19922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0120"/>
            <a:ext cx="8485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кабинете трудового обучения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ходить в кабинет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началом работы одеть спецодежд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ачинать работу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льзя отвлекать работающих однокласснико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получении травмы учащийся должен немедленно обратиться к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4" name="Рисунок 4" descr="aptechka.jpg"/>
          <p:cNvPicPr/>
          <p:nvPr/>
        </p:nvPicPr>
        <p:blipFill>
          <a:blip r:embed="rId2"/>
          <a:stretch/>
        </p:blipFill>
        <p:spPr>
          <a:xfrm>
            <a:off x="3143160" y="3000240"/>
            <a:ext cx="261936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6760" y="330120"/>
            <a:ext cx="859644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тканью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6678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8" name="Рисунок 6" descr="01484f093584.jpg"/>
          <p:cNvPicPr/>
          <p:nvPr/>
        </p:nvPicPr>
        <p:blipFill>
          <a:blip r:embed="rId3"/>
          <a:stretch/>
        </p:blipFill>
        <p:spPr>
          <a:xfrm>
            <a:off x="357120" y="4572000"/>
            <a:ext cx="2071800" cy="18702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571320"/>
            <a:ext cx="77724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Шейте только с наперстко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кройки к ткани прикрепляйте острыми концами            булавок в направлении от себ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наклоняйтесь близко к движущимся частям швейной машин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Рисунок 6" descr="3531898.jpg"/>
          <p:cNvPicPr/>
          <p:nvPr/>
        </p:nvPicPr>
        <p:blipFill>
          <a:blip r:embed="rId4"/>
          <a:stretch/>
        </p:blipFill>
        <p:spPr>
          <a:xfrm>
            <a:off x="3643200" y="464328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7" descr="48827632_1.jpg"/>
          <p:cNvPicPr/>
          <p:nvPr/>
        </p:nvPicPr>
        <p:blipFill>
          <a:blip r:embed="rId5"/>
          <a:stretch/>
        </p:blipFill>
        <p:spPr>
          <a:xfrm>
            <a:off x="1143000" y="4467240"/>
            <a:ext cx="18813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imgB.jpg"/>
          <p:cNvPicPr/>
          <p:nvPr/>
        </p:nvPicPr>
        <p:blipFill>
          <a:blip r:embed="rId6"/>
          <a:stretch/>
        </p:blipFill>
        <p:spPr>
          <a:xfrm>
            <a:off x="6858000" y="4429080"/>
            <a:ext cx="1714680" cy="198936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держите пальцы рук около лапки швейной машины во избежание прокола их игл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откусывайте нитки зубами, а отрезайте их ножницам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6" name="Рисунок 5" descr="T04534-DUR1771.jpg"/>
          <p:cNvPicPr/>
          <p:nvPr/>
        </p:nvPicPr>
        <p:blipFill>
          <a:blip r:embed="rId4"/>
          <a:stretch/>
        </p:blipFill>
        <p:spPr>
          <a:xfrm>
            <a:off x="6143760" y="435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q4.jpg"/>
          <p:cNvPicPr/>
          <p:nvPr/>
        </p:nvPicPr>
        <p:blipFill>
          <a:blip r:embed="rId5"/>
          <a:stretch/>
        </p:blipFill>
        <p:spPr>
          <a:xfrm>
            <a:off x="857160" y="4286160"/>
            <a:ext cx="2192400" cy="227988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8558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электрическим утюгом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оставляйте включенный утюг в сеть без присмот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ключайте и выключайте утюг сухими рук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тавьте утюг на термоизоляционную подстав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1" name="Рисунок 5" descr="PHILIPS%20GC-3109_enl.jpg"/>
          <p:cNvPicPr/>
          <p:nvPr/>
        </p:nvPicPr>
        <p:blipFill>
          <a:blip r:embed="rId4"/>
          <a:stretch/>
        </p:blipFill>
        <p:spPr>
          <a:xfrm>
            <a:off x="5857920" y="4429080"/>
            <a:ext cx="2523960" cy="205092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нормальной работой утюга, о всех неисправностях сообщайте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тем, чтобы подошва утюга не касалась шну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Отключайте утюг только за вил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LEGION</cp:lastModifiedBy>
  <dcterms:modified xsi:type="dcterms:W3CDTF">2015-03-31T08:39:45Z</dcterms:modified>
  <cp:revision>9</cp:revision>
  <dc:subject/>
  <dc:title>Техника безопасности на уроках технологии</dc:title>
</cp:coreProperties>
</file>